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649E379-5253-4A37-BCE9-D3AA5EBE2E2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051FA18B-C26E-4674-BFC0-09B8459C7D0F}"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t">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22200" y="717480"/>
            <a:ext cx="4703760" cy="3527640"/>
          </a:xfrm>
          <a:prstGeom prst="rect">
            <a:avLst/>
          </a:prstGeom>
          <a:ln w="0">
            <a:noFill/>
          </a:ln>
        </p:spPr>
      </p:sp>
      <p:sp>
        <p:nvSpPr>
          <p:cNvPr id="15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vidual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22200" y="717480"/>
            <a:ext cx="4703760" cy="3527640"/>
          </a:xfrm>
          <a:prstGeom prst="rect">
            <a:avLst/>
          </a:prstGeom>
          <a:ln w="0">
            <a:noFill/>
          </a:ln>
        </p:spPr>
      </p:sp>
      <p:sp>
        <p:nvSpPr>
          <p:cNvPr id="18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1327947-8895-4471-8113-18AD23A3ABD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22200" y="717480"/>
            <a:ext cx="4703760" cy="3527640"/>
          </a:xfrm>
          <a:prstGeom prst="rect">
            <a:avLst/>
          </a:prstGeom>
          <a:ln w="0">
            <a:noFill/>
          </a:ln>
        </p:spPr>
      </p:sp>
      <p:sp>
        <p:nvSpPr>
          <p:cNvPr id="18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F53C923-BB46-4B1F-85F0-704DEF607DA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22200" y="717480"/>
            <a:ext cx="4703760" cy="3527640"/>
          </a:xfrm>
          <a:prstGeom prst="rect">
            <a:avLst/>
          </a:prstGeom>
          <a:ln w="0">
            <a:noFill/>
          </a:ln>
        </p:spPr>
      </p:sp>
      <p:sp>
        <p:nvSpPr>
          <p:cNvPr id="18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EF80410-B457-4B63-B146-55ED8AE1E93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22200" y="717480"/>
            <a:ext cx="4703760" cy="3527640"/>
          </a:xfrm>
          <a:prstGeom prst="rect">
            <a:avLst/>
          </a:prstGeom>
          <a:ln w="0">
            <a:noFill/>
          </a:ln>
        </p:spPr>
      </p:sp>
      <p:sp>
        <p:nvSpPr>
          <p:cNvPr id="19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E872FA1-1624-463C-9EFD-74E3D86CF7F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292EB32-5E54-4182-9C70-491B4E89082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22200" y="717480"/>
            <a:ext cx="4703760" cy="3527640"/>
          </a:xfrm>
          <a:prstGeom prst="rect">
            <a:avLst/>
          </a:prstGeom>
          <a:ln w="0">
            <a:noFill/>
          </a:ln>
        </p:spPr>
      </p:sp>
      <p:sp>
        <p:nvSpPr>
          <p:cNvPr id="19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EC171AC-803A-4529-BEA0-DAC6D1AA867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22200" y="717480"/>
            <a:ext cx="4703760" cy="3527640"/>
          </a:xfrm>
          <a:prstGeom prst="rect">
            <a:avLst/>
          </a:prstGeom>
          <a:ln w="0">
            <a:noFill/>
          </a:ln>
        </p:spPr>
      </p:sp>
      <p:sp>
        <p:nvSpPr>
          <p:cNvPr id="20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F540D70-C624-44C6-8E07-B7181FCBB9C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22200" y="717480"/>
            <a:ext cx="4703760" cy="3527640"/>
          </a:xfrm>
          <a:prstGeom prst="rect">
            <a:avLst/>
          </a:prstGeom>
          <a:ln w="0">
            <a:noFill/>
          </a:ln>
        </p:spPr>
      </p:sp>
      <p:sp>
        <p:nvSpPr>
          <p:cNvPr id="20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EA635CE-1802-47F4-A073-507E29D7B2A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22200" y="717480"/>
            <a:ext cx="4703760" cy="3527640"/>
          </a:xfrm>
          <a:prstGeom prst="rect">
            <a:avLst/>
          </a:prstGeom>
          <a:ln w="0">
            <a:noFill/>
          </a:ln>
        </p:spPr>
      </p:sp>
      <p:sp>
        <p:nvSpPr>
          <p:cNvPr id="20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6FA260B-8481-4FDA-9BF9-B8DECE59AAA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22200" y="717480"/>
            <a:ext cx="4703760" cy="3527640"/>
          </a:xfrm>
          <a:prstGeom prst="rect">
            <a:avLst/>
          </a:prstGeom>
          <a:ln w="0">
            <a:noFill/>
          </a:ln>
        </p:spPr>
      </p:sp>
      <p:sp>
        <p:nvSpPr>
          <p:cNvPr id="20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13D16A4-63C6-426E-9BFC-0B6AB800191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22200" y="717480"/>
            <a:ext cx="4703760" cy="3527640"/>
          </a:xfrm>
          <a:prstGeom prst="rect">
            <a:avLst/>
          </a:prstGeom>
          <a:ln w="0">
            <a:noFill/>
          </a:ln>
        </p:spPr>
      </p:sp>
      <p:sp>
        <p:nvSpPr>
          <p:cNvPr id="15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5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8AE5805-17E5-49AD-986C-0DDBD65541E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22200" y="717480"/>
            <a:ext cx="4703760" cy="3527640"/>
          </a:xfrm>
          <a:prstGeom prst="rect">
            <a:avLst/>
          </a:prstGeom>
          <a:ln w="0">
            <a:noFill/>
          </a:ln>
        </p:spPr>
      </p:sp>
      <p:sp>
        <p:nvSpPr>
          <p:cNvPr id="21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DCF50A0-9F52-421E-A5BE-F2C5F77E95F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2200" y="717480"/>
            <a:ext cx="4703760" cy="3527640"/>
          </a:xfrm>
          <a:prstGeom prst="rect">
            <a:avLst/>
          </a:prstGeom>
          <a:ln w="0">
            <a:noFill/>
          </a:ln>
        </p:spPr>
      </p:sp>
      <p:sp>
        <p:nvSpPr>
          <p:cNvPr id="21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F6B957C-A9FA-4109-B167-56F03ADABE2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01C7452-FFB4-4E1F-958D-80155186BE1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22200" y="717480"/>
            <a:ext cx="4703760" cy="3527640"/>
          </a:xfrm>
          <a:prstGeom prst="rect">
            <a:avLst/>
          </a:prstGeom>
          <a:ln w="0">
            <a:noFill/>
          </a:ln>
        </p:spPr>
      </p:sp>
      <p:sp>
        <p:nvSpPr>
          <p:cNvPr id="22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2FA5DCD-6A30-4DFE-8ED7-5ECD20B2FC6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22200" y="717480"/>
            <a:ext cx="4703760" cy="3527640"/>
          </a:xfrm>
          <a:prstGeom prst="rect">
            <a:avLst/>
          </a:prstGeom>
          <a:ln w="0">
            <a:noFill/>
          </a:ln>
        </p:spPr>
      </p:sp>
      <p:sp>
        <p:nvSpPr>
          <p:cNvPr id="22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5E48159-9697-4C42-9ED2-EE8591D9250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22200" y="717480"/>
            <a:ext cx="4703760" cy="3527640"/>
          </a:xfrm>
          <a:prstGeom prst="rect">
            <a:avLst/>
          </a:prstGeom>
          <a:ln w="0">
            <a:noFill/>
          </a:ln>
        </p:spPr>
      </p:sp>
      <p:sp>
        <p:nvSpPr>
          <p:cNvPr id="22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D545D5A-0090-47EC-BF33-3DBB1FEF042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17480"/>
            <a:ext cx="4703760" cy="3527640"/>
          </a:xfrm>
          <a:prstGeom prst="rect">
            <a:avLst/>
          </a:prstGeom>
          <a:ln w="0">
            <a:noFill/>
          </a:ln>
        </p:spPr>
      </p:sp>
      <p:sp>
        <p:nvSpPr>
          <p:cNvPr id="23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2CBA901-1DA4-4664-9C3A-B096F95701B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22200" y="717480"/>
            <a:ext cx="4703760" cy="3527640"/>
          </a:xfrm>
          <a:prstGeom prst="rect">
            <a:avLst/>
          </a:prstGeom>
          <a:ln w="0">
            <a:noFill/>
          </a:ln>
        </p:spPr>
      </p:sp>
      <p:sp>
        <p:nvSpPr>
          <p:cNvPr id="16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D6417AC-C146-43FA-8837-3A86D8FFD82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22200" y="717480"/>
            <a:ext cx="4703760" cy="3527640"/>
          </a:xfrm>
          <a:prstGeom prst="rect">
            <a:avLst/>
          </a:prstGeom>
          <a:ln w="0">
            <a:noFill/>
          </a:ln>
        </p:spPr>
      </p:sp>
      <p:sp>
        <p:nvSpPr>
          <p:cNvPr id="1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2A2CCA9-B6BB-403A-8F0F-7AEA5DFF00B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22200" y="717480"/>
            <a:ext cx="4703760" cy="3527640"/>
          </a:xfrm>
          <a:prstGeom prst="rect">
            <a:avLst/>
          </a:prstGeom>
          <a:ln w="0">
            <a:noFill/>
          </a:ln>
        </p:spPr>
      </p:sp>
      <p:sp>
        <p:nvSpPr>
          <p:cNvPr id="16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6ADFDAF-A84A-4F51-ABC5-EE203057F23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22200" y="717480"/>
            <a:ext cx="4703760" cy="3527640"/>
          </a:xfrm>
          <a:prstGeom prst="rect">
            <a:avLst/>
          </a:prstGeom>
          <a:ln w="0">
            <a:noFill/>
          </a:ln>
        </p:spPr>
      </p:sp>
      <p:sp>
        <p:nvSpPr>
          <p:cNvPr id="17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3899CE5-341B-40EA-ADA8-18026210C30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22200" y="717480"/>
            <a:ext cx="4703760" cy="3527640"/>
          </a:xfrm>
          <a:prstGeom prst="rect">
            <a:avLst/>
          </a:prstGeom>
          <a:ln w="0">
            <a:noFill/>
          </a:ln>
        </p:spPr>
      </p:sp>
      <p:sp>
        <p:nvSpPr>
          <p:cNvPr id="17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247F44A-5A3F-42A7-AA82-566DBE4F679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22200" y="717480"/>
            <a:ext cx="4703760" cy="3527640"/>
          </a:xfrm>
          <a:prstGeom prst="rect">
            <a:avLst/>
          </a:prstGeom>
          <a:ln w="0">
            <a:noFill/>
          </a:ln>
        </p:spPr>
      </p:sp>
      <p:sp>
        <p:nvSpPr>
          <p:cNvPr id="17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BC87371-5EE4-40A0-9705-B39B46E7E70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22200" y="717480"/>
            <a:ext cx="4703760" cy="3527640"/>
          </a:xfrm>
          <a:prstGeom prst="rect">
            <a:avLst/>
          </a:prstGeom>
          <a:ln w="0">
            <a:noFill/>
          </a:ln>
        </p:spPr>
      </p:sp>
      <p:sp>
        <p:nvSpPr>
          <p:cNvPr id="1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B694664-A267-4B2F-929C-0C981656EF0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34420F7-71B1-429C-AF13-98D6B133274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2C66BFB-87F2-424D-B2B6-A1C52F600F7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Role%20TSP%20Coach.doc"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Coaching the Team</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ablishing Process Discipline</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principle of process discipline is to demand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the first sign of a process discipline problem is poor data gathering, and it shows up at the weekly team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members do not provide their data for the weekly meeting at the appointed time, insist that they stop what they are doing and get the data right then.  If you do this, weekly data gathering should not be a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bjections to Data Gathering -1</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bjections usually concern either th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ime needed to gather the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ceived use that management will make of the data</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people actually measure the data-gathering time, it turns out to be almost insignificant.  The key is to do it long enough so that it becomes automatic.</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You can usually overcome individuals’ objections by suggesting that they try gathering their data for a short time and getting back to you if they still have concerns.</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eam member continues to argu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k the individual to measure how long data-gathering tak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view the data with the individual.</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bjections to Data Gathering -2</a:t>
            </a:r>
            <a:endParaRPr b="1" lang="en-US" sz="3600" spc="-1" strike="noStrike">
              <a:solidFill>
                <a:srgbClr val="9c2108"/>
              </a:solidFill>
              <a:latin typeface="Arial"/>
            </a:endParaRPr>
          </a:p>
        </p:txBody>
      </p:sp>
      <p:sp>
        <p:nvSpPr>
          <p:cNvPr id="1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these points with the team members regarding management’s use of the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ment is interested in the team’s schedule performance and in the quality of the team’s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ment needs to know that the team members are properly gathering and using their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long as management is assured that data are being properly gathered and used, they have no need to look at anyone’s personal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management finds that the data are not being properly gathered and used, they will have to look at individual data to understand the problem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o, if the team members don’t want management looking at their data, all they have to do is properly gather and use the data.</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Data Quality -1</a:t>
            </a:r>
            <a:endParaRPr b="1" lang="en-US" sz="3600" spc="-1" strike="noStrike">
              <a:solidFill>
                <a:srgbClr val="9c2108"/>
              </a:solidFill>
              <a:latin typeface="Arial"/>
            </a:endParaRPr>
          </a:p>
        </p:txBody>
      </p:sp>
      <p:sp>
        <p:nvSpPr>
          <p:cNvPr id="122" name=""/>
          <p:cNvSpPr txBox="1"/>
          <p:nvPr/>
        </p:nvSpPr>
        <p:spPr>
          <a:xfrm>
            <a:off x="1017360" y="1558440"/>
            <a:ext cx="7413480" cy="474372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team is gathering data, the next step is to ensure that the data are accurate and complet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nly way to ensure data accuracy is to have someone examine the team members’ data every week.</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out monitoring, most teams don’t consistently gather and use their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lem is not usually due to irresponsible team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gathering accurate and complete data requires a level of discipline that is hard to sustain.</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articularly problematic if nobody examines the data or comments on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need to work out with the team a way to monitor the quality of the data gather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Data Quality -2</a:t>
            </a:r>
            <a:endParaRPr b="1" lang="en-US" sz="3600" spc="-1" strike="noStrike">
              <a:solidFill>
                <a:srgbClr val="9c2108"/>
              </a:solidFill>
              <a:latin typeface="Arial"/>
            </a:endParaRPr>
          </a:p>
        </p:txBody>
      </p:sp>
      <p:sp>
        <p:nvSpPr>
          <p:cNvPr id="12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 first-time TSP team, the best approach is for the coach to meet with each team member every week and review the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required data is recor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ata is being recorded as the work is done, not after the fa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ata are self-consistent; e.g., defects found in a phase are consistent with the phase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the data entries are complete; e.g., phases and assemblies are recorded for every task, time, and defect ent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Data Quality -3</a:t>
            </a:r>
            <a:endParaRPr b="1" lang="en-US" sz="3600" spc="-1" strike="noStrike">
              <a:solidFill>
                <a:srgbClr val="9c2108"/>
              </a:solidFill>
              <a:latin typeface="Arial"/>
            </a:endParaRPr>
          </a:p>
        </p:txBody>
      </p:sp>
      <p:sp>
        <p:nvSpPr>
          <p:cNvPr id="12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team has established process discipline, have the quality manager perform the process monitor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a check to see that the quality manager is doing the job properly, check the quality manager’s data each week.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quality manager bring his or her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quality manager to review the checks that he or she makes on the team’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 the quality manager’s data the same wa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 the quality of the team’s data and any problems with the team’s data that need the coach’s atten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Process Quality -1</a:t>
            </a:r>
            <a:endParaRPr b="1" lang="en-US" sz="3600" spc="-1" strike="noStrike">
              <a:solidFill>
                <a:srgbClr val="9c2108"/>
              </a:solidFill>
              <a:latin typeface="Arial"/>
            </a:endParaRPr>
          </a:p>
        </p:txBody>
      </p:sp>
      <p:sp>
        <p:nvSpPr>
          <p:cNvPr id="128" name=""/>
          <p:cNvSpPr txBox="1"/>
          <p:nvPr/>
        </p:nvSpPr>
        <p:spPr>
          <a:xfrm>
            <a:off x="1017720" y="1538280"/>
            <a:ext cx="7689600" cy="476424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final process discipline issue concerns the fidelity with which the process is followed.</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first step is to review the key processes with the entire team and make sure that everyone agrees to follow them. These processes are specified by the</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SP process scripts</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processes the team defined during the launch</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1900"/>
            </a:br>
            <a:r>
              <a:rPr b="0" lang="en-US" sz="1900" spc="-1" strike="noStrike">
                <a:solidFill>
                  <a:srgbClr val="39536b"/>
                </a:solidFill>
                <a:latin typeface="Arial"/>
              </a:rPr>
              <a:t>If a team member has a problem with any process, they should submit a PIP to the process manager.</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proposed change should improve the process.</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process manager should take the PIP through the team’s change procedure.</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Once the team has agreed on the processes that they are going to use, they need to decide how the process fidelity will be monitored.</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Process Quality -2</a:t>
            </a:r>
            <a:endParaRPr b="1" lang="en-US" sz="3600" spc="-1" strike="noStrike">
              <a:solidFill>
                <a:srgbClr val="9c2108"/>
              </a:solidFill>
              <a:latin typeface="Arial"/>
            </a:endParaRPr>
          </a:p>
        </p:txBody>
      </p:sp>
      <p:sp>
        <p:nvSpPr>
          <p:cNvPr id="130" name=""/>
          <p:cNvSpPr txBox="1"/>
          <p:nvPr/>
        </p:nvSpPr>
        <p:spPr>
          <a:xfrm>
            <a:off x="1017720" y="1454040"/>
            <a:ext cx="7959600" cy="47959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quality manager should review the process fidelity of the team’s quality processes.  (Details are in the lecture on “Maintaining Quality Focu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nspections </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ests</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or the other processes, the process manager should monitor the team’s process fidelity.</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ome possible issues that may be identified are as follow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meeting process is not being follow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Design standards were not documented and/or are not being follow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Coding standards were not documented and/or are not being follow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system test plan was not developed during the requirements phase.</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You launched a team last week that has four team members and a team leader.  You’re attending the first weekly meeting after a  full week of work.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ter, the planning manager, collected all of his data, but he was unable to roll up the team data because the others didn’t turn in their spreadshee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m, the senior member on the team, has no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isa collected some time data but didn’t collect it for all of her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e collected her data but didn’t get her data to Pet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pulls you aside and asks how she should handle the meeting, since most of the team doesn’t have their data.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at would you advise the team leader to do?</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the Process -1</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a team has been through at least one TSP launch and has worked together for several months,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how to use the PSP and TSP metho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data on the tasks that they hav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the task hours they can expect to achie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what they can accomplish in a task hou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cess quality, teams know their strengths, weaknesses, and opportun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n experienced team, your focus can shift to process improvement and product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 </a:t>
            </a:r>
            <a:r>
              <a:rPr b="1" lang="en-US" sz="3600" spc="-1" strike="noStrike">
                <a:solidFill>
                  <a:srgbClr val="9c2108"/>
                </a:solidFill>
                <a:latin typeface="Arial"/>
              </a:rPr>
              <a:t>Outline: Running the Project</a:t>
            </a:r>
            <a:endParaRPr b="1" lang="en-US" sz="3600" spc="-1" strike="noStrike">
              <a:solidFill>
                <a:srgbClr val="9c2108"/>
              </a:solidFill>
              <a:latin typeface="Arial"/>
            </a:endParaRPr>
          </a:p>
        </p:txBody>
      </p:sp>
      <p:sp>
        <p:nvSpPr>
          <p:cNvPr id="99" name=""/>
          <p:cNvSpPr txBox="1"/>
          <p:nvPr/>
        </p:nvSpPr>
        <p:spPr>
          <a:xfrm>
            <a:off x="1017360" y="1496520"/>
            <a:ext cx="8126280" cy="480564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roles:  getting roles to be successful on a team</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racking and reporting:  collecting data, the weekly team meeting, reporting to management</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the baseline plan:  keeping the team commitment, evaluating status, adjusting plans when necessary</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a quality focus:  responsibilities for quality, TSP quality methods</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areas where the coach helps TSP discipline</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leader:  handling problems with a TSP team leader</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ost-launch Coaching:  post-launch coaching strategy and plan</a:t>
            </a:r>
            <a:endParaRPr b="0" lang="en-US" sz="1800" spc="-1" strike="noStrike">
              <a:solidFill>
                <a:srgbClr val="39536b"/>
              </a:solidFill>
              <a:latin typeface="Arial"/>
            </a:endParaRPr>
          </a:p>
        </p:txBody>
      </p:sp>
      <p:sp>
        <p:nvSpPr>
          <p:cNvPr id="100" name="AutoShape 2052"/>
          <p:cNvSpPr/>
          <p:nvPr/>
        </p:nvSpPr>
        <p:spPr>
          <a:xfrm>
            <a:off x="380880" y="4219560"/>
            <a:ext cx="327240" cy="287280"/>
          </a:xfrm>
          <a:prstGeom prst="rightArrow">
            <a:avLst>
              <a:gd name="adj1" fmla="val 50000"/>
              <a:gd name="adj2" fmla="val 28477"/>
            </a:avLst>
          </a:prstGeom>
          <a:solidFill>
            <a:srgbClr val="39536b"/>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the Process -2</a:t>
            </a:r>
            <a:endParaRPr b="1" lang="en-US" sz="3600" spc="-1" strike="noStrike">
              <a:solidFill>
                <a:srgbClr val="9c2108"/>
              </a:solidFill>
              <a:latin typeface="Arial"/>
            </a:endParaRPr>
          </a:p>
        </p:txBody>
      </p:sp>
      <p:sp>
        <p:nvSpPr>
          <p:cNvPr id="13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step is to pay more attention to process discipline.  To help the team do this, be more explicit about following the process yourself.</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are a good process role-model, the team is likely to emulate your performance in their activ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cess discipline in place, the team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ir process data to identify what works and what does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why these methods succeed or fai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lessons to improve every team member’s perform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the Process -3</a:t>
            </a:r>
            <a:endParaRPr b="1" lang="en-US" sz="3600" spc="-1" strike="noStrike">
              <a:solidFill>
                <a:srgbClr val="9c2108"/>
              </a:solidFill>
              <a:latin typeface="Arial"/>
            </a:endParaRPr>
          </a:p>
        </p:txBody>
      </p:sp>
      <p:sp>
        <p:nvSpPr>
          <p:cNvPr id="13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a team has completed one or more projects, have the team use their prior performance as a benchmark for the next 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prior quality, productivity, and planning performance data to set new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process or plan changes needed to reach these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Checkpoint Review</a:t>
            </a:r>
            <a:endParaRPr b="1" lang="en-US" sz="3600" spc="-1" strike="noStrike">
              <a:solidFill>
                <a:srgbClr val="9c2108"/>
              </a:solidFill>
              <a:latin typeface="Arial"/>
            </a:endParaRPr>
          </a:p>
        </p:txBody>
      </p:sp>
      <p:sp>
        <p:nvSpPr>
          <p:cNvPr id="14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 checkpoint is a one- or two-day visit by a TSP coach with the team, to review the team’s data and how well the team is following the process in order to identify the issues and problems limiting the team’s performance and recommend actions to address them.</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eams often have problems with the TSP process and support tool basic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gathering and managing their data</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consolidating team data</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generating progress reports</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f not corrected early, these problems can adversely affect a team’s performance.  Checkpoints help TSP teams to deal with these problems in a timely way.</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eckpoint Process -1</a:t>
            </a:r>
            <a:endParaRPr b="1" lang="en-US" sz="3600" spc="-1" strike="noStrike">
              <a:solidFill>
                <a:srgbClr val="9c2108"/>
              </a:solidFill>
              <a:latin typeface="Arial"/>
            </a:endParaRPr>
          </a:p>
        </p:txBody>
      </p:sp>
      <p:sp>
        <p:nvSpPr>
          <p:cNvPr id="142" name=""/>
          <p:cNvSpPr txBox="1"/>
          <p:nvPr/>
        </p:nvSpPr>
        <p:spPr>
          <a:xfrm>
            <a:off x="1017360" y="1538280"/>
            <a:ext cx="7856280" cy="4764240"/>
          </a:xfrm>
          <a:prstGeom prst="rect">
            <a:avLst/>
          </a:prstGeom>
          <a:noFill/>
          <a:ln w="0">
            <a:noFill/>
          </a:ln>
        </p:spPr>
        <p:txBody>
          <a:bodyPr lIns="0" rIns="0" tIns="0" bIns="0" anchor="t">
            <a:normAutofit fontScale="97000"/>
          </a:bodyPr>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Begin by examining individual and team data.</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ee if everyone is gathering and reporting their data.</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ee if the team is following the process.</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plans detailed enough?</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team holding weekly meetings?</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 role managers handling their responsibilities?</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team monitoring quality?</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team planning to do quality work?</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does their quality data look like?</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ir quality goals being met?</a:t>
            </a:r>
            <a:endParaRPr b="0" lang="en-US" sz="19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Next meet with the team to discuss their issues and concerns</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ow they use the process and how it works for them</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problems or issues with the process</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could management do to better support the team</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ccomplishments, progress, things working well</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uggestions for improvement</a:t>
            </a:r>
            <a:endParaRPr b="0" lang="en-US" sz="19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eckpoint Process -2</a:t>
            </a:r>
            <a:endParaRPr b="1" lang="en-US" sz="3600" spc="-1" strike="noStrike">
              <a:solidFill>
                <a:srgbClr val="9c2108"/>
              </a:solidFill>
              <a:latin typeface="Arial"/>
            </a:endParaRPr>
          </a:p>
        </p:txBody>
      </p:sp>
      <p:sp>
        <p:nvSpPr>
          <p:cNvPr id="144" name=""/>
          <p:cNvSpPr txBox="1"/>
          <p:nvPr/>
        </p:nvSpPr>
        <p:spPr>
          <a:xfrm>
            <a:off x="1017720" y="1526760"/>
            <a:ext cx="7596000" cy="47754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n, meet one-on-one with each team member to discus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questions about the team member’s data</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questions about the team member’s team role</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ow to address any problems or concerns the member has raised</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ccomplishments, progress, things working well</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Other problems or suggestions</a:t>
            </a: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Next, meet with the team to discus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preliminary checkpoint finding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team problems or issues concerning management and the team leader</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coach’s recommendations for addressing these problem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problems, issues, or improvement suggestions by the team</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s ideas for changes or additions to the checkpoint report</a:t>
            </a: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eckpoint Process -3</a:t>
            </a:r>
            <a:endParaRPr b="1" lang="en-US" sz="3600" spc="-1" strike="noStrike">
              <a:solidFill>
                <a:srgbClr val="9c2108"/>
              </a:solidFill>
              <a:latin typeface="Arial"/>
            </a:endParaRPr>
          </a:p>
        </p:txBody>
      </p:sp>
      <p:sp>
        <p:nvSpPr>
          <p:cNvPr id="146" name=""/>
          <p:cNvSpPr txBox="1"/>
          <p:nvPr/>
        </p:nvSpPr>
        <p:spPr>
          <a:xfrm>
            <a:off x="1017720" y="1526760"/>
            <a:ext cx="7596000" cy="47754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inally, the coach and team leader</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 the final findings and recommendations with the team (team may develop an action plan to address findings prior to management review of checkpoint result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 findings and recommendations with management.</a:t>
            </a: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ork with the team to fix the problems.   If that will not be fully successful also, work with management or other parts of the organization.</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Interview”</a:t>
            </a:r>
            <a:endParaRPr b="1" lang="en-US" sz="3600" spc="-1" strike="noStrike">
              <a:solidFill>
                <a:srgbClr val="9c2108"/>
              </a:solidFill>
              <a:latin typeface="Arial"/>
            </a:endParaRPr>
          </a:p>
        </p:txBody>
      </p:sp>
      <p:sp>
        <p:nvSpPr>
          <p:cNvPr id="14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sit and fire question after question, the team member or leader may feel threatened or drilled.  If, instead, you tell about yourself, or other stories, in relation to the information you know about the person, they will probably respond without being question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Guidelines - 2</a:t>
            </a:r>
            <a:endParaRPr b="1" lang="en-US" sz="3600" spc="-1" strike="noStrike">
              <a:solidFill>
                <a:srgbClr val="9c2108"/>
              </a:solidFill>
              <a:latin typeface="Arial"/>
            </a:endParaRPr>
          </a:p>
        </p:txBody>
      </p:sp>
      <p:graphicFrame>
        <p:nvGraphicFramePr>
          <p:cNvPr id="150" name=""/>
          <p:cNvGraphicFramePr/>
          <p:nvPr/>
        </p:nvGraphicFramePr>
        <p:xfrm>
          <a:off x="752400" y="1504800"/>
          <a:ext cx="8050320" cy="4784760"/>
        </p:xfrm>
        <a:graphic>
          <a:graphicData uri="http://schemas.openxmlformats.org/drawingml/2006/table">
            <a:tbl>
              <a:tblPr/>
              <a:tblGrid>
                <a:gridCol w="1548000"/>
                <a:gridCol w="6502320"/>
              </a:tblGrid>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Make a clear beginning</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State your goals and objectives for the meeting. Be cordial but businesslike.  Establish an air of openness, but also a time frame and the outcome goal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Use nonverbal listening skill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Eye contact, nonverbals, and body position are extremely important in convincing a person that you are not bored by his/her informati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Paraphrase</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Putting into your own words what was just said.  This makes sure that you understand what was said and also lets the person know you are truly interested.</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Restate</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Echoing a piece or all of what was said in the words of the person shows you are listening, helps check accuracy, and gives the person some breathing room.</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Share yourself</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It is extremely important that you are willing to give out information about yourself. This will build a bond of trust and of openness between you and the client.</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Use leads and cue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From information already received, general leads can be used to spark new areas of conversation. If the person picks up on the lead, follow-up may be used to get more specific informati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Ask what’s and how’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When asking questions, begin with “What” or “How” to get the most useful informati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Summarize</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Restating from time to time what has been said is helpful for both you and the pers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Guidelines - 3</a:t>
            </a:r>
            <a:endParaRPr b="1" lang="en-US" sz="3600" spc="-1" strike="noStrike">
              <a:solidFill>
                <a:srgbClr val="9c2108"/>
              </a:solidFill>
              <a:latin typeface="Arial"/>
            </a:endParaRPr>
          </a:p>
        </p:txBody>
      </p:sp>
      <p:graphicFrame>
        <p:nvGraphicFramePr>
          <p:cNvPr id="152" name=""/>
          <p:cNvGraphicFramePr/>
          <p:nvPr/>
        </p:nvGraphicFramePr>
        <p:xfrm>
          <a:off x="658800" y="1504800"/>
          <a:ext cx="8110440" cy="5059440"/>
        </p:xfrm>
        <a:graphic>
          <a:graphicData uri="http://schemas.openxmlformats.org/drawingml/2006/table">
            <a:tbl>
              <a:tblPr/>
              <a:tblGrid>
                <a:gridCol w="1366920"/>
                <a:gridCol w="6743520"/>
              </a:tblGrid>
              <a:tr h="9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Watch the energy</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Being aware of the feelings attached to various statements can tell you very much.  Pointing out the observed feelings back to the person may reveal more information (“You seem really excited when we discuss…”).  How the data is shared is usually more important than the data itself.</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2865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Sequence the depth of question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here are two general sequences to remember as you go through the data gathering: </a:t>
                      </a:r>
                      <a:endParaRPr b="0" lang="en-US" sz="1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Organizational layers:</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op layer: “What is the problem you are experiencing?”</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Middle layer: “What are other individuals or groups doing to cause or maintain this problem?”</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Inside layer: “What is your role in the problem? What are you doing to contribute or delay a solution?”</a:t>
                      </a:r>
                      <a:endParaRPr b="0" lang="en-US" sz="1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ime sequence:</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First: “What do you do?”</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Second: “What would you like to be doing?”</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hird: “What and who are keeping you from doing what you want to be doing?”</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Be you</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Don’t force any of these guidelines.  Learn from each one-on-one discussion and strive to build your communication skill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73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Obtain a committed closing</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If necessary, get some kind of commitment for further discussions or actions before you leave.  Show appreciation for the time spent with the pers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launch, a coach is needed to guide and support the team (</a:t>
            </a:r>
            <a:r>
              <a:rPr b="0" lang="en-US" sz="2000" spc="-1" strike="noStrike" u="sng">
                <a:solidFill>
                  <a:srgbClr val="9c2108"/>
                </a:solidFill>
                <a:uFillTx/>
                <a:latin typeface="Arial"/>
                <a:hlinkClick r:id="rId1"/>
              </a:rPr>
              <a:t>See TSP Coach Role Specification</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organizations just starting with TSP, this function is best handled by a TSP coach.</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ntually, the team leader will be able to do most of this functio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incipal job of the team’s coach is to build talent in the team and support the team in meeting its goal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major role of the team’s coach is to help the team establish and maintain its process discipline by monitoring the team’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ta gather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ta quality</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cess fidelity</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responsibilities of the coach during the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deal with issues related to process 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a TSP checkpoint is and when it is appropriat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responsibiliti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ing process 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data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process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ing the proces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point proc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Does the Team Need a Coach?</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most likely represents a new way of thinking and behaving for the individual, the team leader, and the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uiding TSP teams requires skill, discipline, insight, and even an outside perspect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the Team</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standard coaching formula.  Every team and every team member is uniq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is dynamic, but should be based on a firm set of princip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s must tailor their approaches to the needs of the team and its memb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Principles -1</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people want to do the right thing.</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talent.</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rn team members’ potentialiti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eam members to improve.</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high standard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what superior work looks lik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actices and methods that produce superior work.</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when work is below standard and what caused the problem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 and guide team members to do better when they fall short.</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Principles -2</a:t>
            </a:r>
            <a:endParaRPr b="1" lang="en-US" sz="3600" spc="-1" strike="noStrike">
              <a:solidFill>
                <a:srgbClr val="9c2108"/>
              </a:solidFill>
              <a:latin typeface="Arial"/>
            </a:endParaRPr>
          </a:p>
        </p:txBody>
      </p:sp>
      <p:sp>
        <p:nvSpPr>
          <p:cNvPr id="112" name=""/>
          <p:cNvSpPr txBox="1"/>
          <p:nvPr/>
        </p:nvSpPr>
        <p:spPr>
          <a:xfrm>
            <a:off x="1017720" y="1444680"/>
            <a:ext cx="7991280" cy="4868640"/>
          </a:xfrm>
          <a:prstGeom prst="rect">
            <a:avLst/>
          </a:prstGeom>
          <a:noFill/>
          <a:ln w="0">
            <a:noFill/>
          </a:ln>
        </p:spPr>
        <p:txBody>
          <a:bodyPr lIns="0" rIns="0" tIns="0" bIns="0" anchor="t">
            <a:normAutofit fontScale="96000"/>
          </a:bodyPr>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Focus on improvement.</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Show team members how much better they could have done if they had followed the process a little better.</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Convince team members to follow the process even better next time.</a:t>
            </a: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Improve in steps.</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Insist on quality work, but consider the members’ capabilities.</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Be pragmatic. Don’t ask for things that the team feels will not contribute to the job.</a:t>
            </a: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Celebrate every step.</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Nobody does everything right the first time.  We all need to take a step at a time.</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Help the team members to make gradual improvements at each step and cheer whenever they do.</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Focus on how far they have come, not on how far they have to go.</a:t>
            </a: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Focus on succeeding with this project.</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If something is done wrong, it can be done over again.</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The team may be together only for this project.</a:t>
            </a:r>
            <a:endParaRPr b="0" lang="en-US" sz="17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iscipline</a:t>
            </a:r>
            <a:endParaRPr b="1" lang="en-US" sz="3600" spc="-1" strike="noStrike">
              <a:solidFill>
                <a:srgbClr val="9c2108"/>
              </a:solidFill>
              <a:latin typeface="Arial"/>
            </a:endParaRPr>
          </a:p>
        </p:txBody>
      </p:sp>
      <p:sp>
        <p:nvSpPr>
          <p:cNvPr id="114" name=""/>
          <p:cNvSpPr txBox="1"/>
          <p:nvPr/>
        </p:nvSpPr>
        <p:spPr>
          <a:xfrm>
            <a:off x="1017360" y="1568520"/>
            <a:ext cx="7413480" cy="473400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s coach is responsible for establishing and maintaining the team’s process discipline.</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One definition of discipline is “a regimen that develops or improves skill.” [Random]</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Process discipline refers to the fidelity with which a defined process is followed.</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or example, a highly-disciplined team follows all of the process steps.</a:t>
            </a:r>
            <a:endParaRPr b="0" lang="en-US" sz="19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oroughly plans their work</a:t>
            </a:r>
            <a:endParaRPr b="0" lang="en-US" sz="19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igorously follows the process</a:t>
            </a:r>
            <a:endParaRPr b="0" lang="en-US" sz="19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gathers and analyzes their process data</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n short, process discipline for the team deals with a single issue:  doing what the team has decided to do.</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0Z</dcterms:modified>
  <cp:revision>223</cp:revision>
  <dc:subject/>
  <dc:title>No Slide Title</dc:title>
</cp:coreProperties>
</file>